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82D1-5DDA-4244-8DA7-CACCC931C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 type = tr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() – activating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e stat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5) – (9) tracking object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n line 8 compiled into a middleware function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s: Communication radius = 6 h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 radius: 1-2 h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nquish = max theoretical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immediately relinquishes leadership when entity moves out of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trackable speed is VERY fast, 10-30 times faster than max speed of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sensor range increases max trackable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r heartbeat increases maximum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sized events are more easily tra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breaks if CR &lt; 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med nodes broadcast JAM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der nodes receive JAM message and become mapping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2 sends BUILD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 sends BUILD message, M3 starts coalescing 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5) M3’s coalescing timer expires, coalesce group, send BUILD message of new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6) M2 receives coalesced group from M3, updates local data and rel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7) M1 PROBES for neighbors, bridge nodes receives probe and starts long coalescing timer for G1 and 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8) Bridge B1’s coalescing timer expires, sends a BUILD message to M1 and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ately connected networks converge quickly to a single dominant group.  Minimally connected network did not always converge (121 nodes in jammer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ed view of minimally connected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odes present in minimally connected networks.  Jammed nodes are only those along boundary.  Note increase in reliance on bridging nodes as jammed region exp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moderately connected networks converge quickly.  Minimally connected network takes longer because of reliance on bridging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Failure rate = the probability that a mapping node fails. The more connected the network, the more robust to fail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Increase in number of PROBE messages show that as failure rate increases, the number of partitions increase which prevents adjacent groups from coales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s surrounding entity form groups, one around each entity.  Sensor Network Abstraction Layer associates a context label with each group.  Context label contains aggregate state of entity being tracked. Tracking object within the context label performs context-specific compu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3766-9E75-4640-9385-CD7D2E5C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CEA5-1CB0-4359-8553-A6871F7A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3A92-F683-45DD-A189-16F6DE29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EC13-2A4C-44B6-AA0F-FF2475B7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2A9D-3193-4E55-ABC1-1CF6F2EF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77FB-6E5F-487A-8C71-27E8AF97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B39D-F621-42C6-8287-2B26AC9D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FFE1-7629-46BE-BB10-DE52E39C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C8D4-6ABE-4AE7-9F43-9E959E61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F677-2C63-4D15-A290-9B074418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9D2E-6CC3-4D44-B216-7CA386F9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A7B2-2D3B-4908-9DF6-C0407D05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597F-ABC0-4ECC-B4C8-F79E95F7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AD7A-EFFC-4344-8123-E4EC47CA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98DA-929B-43C6-A8E9-C7AD46A9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66CF-9D2D-45C1-8876-153DB821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F02A-829B-458C-A722-06E8AACC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5B1B-80C5-41AD-8AF7-6877F9F5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39EF-8832-4514-A03C-281A586D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9DBD-0464-48F6-AEAE-C986C5AD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B016-C17B-4D55-AB8F-DDE0365B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08A1-A7F4-4A8F-A594-AF2ABEE7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1500-04D0-49D9-AEB6-87127EFB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E24F-EB14-4B0C-B8C5-0211EDBD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3A44-A56C-43EE-8103-DF4AD203A21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ADB9-4BEA-4D0D-8085-393F8F14D1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0559-EAEC-45C1-9788-100B87E10BA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958B-BF8D-4467-AA6C-5F438F1ABD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EnviroTrack and JAM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by Chien-Liang F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BB3E-243D-4C32-BCC2-04F37B379C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. M. Algorithm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 non-member node receives a heartbeat, it sets a tim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entity is sensed before expiration, the node joins the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entity is sensed after timer expires, the node creates a new group (and context label) and declares itself lea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DB20-2B1E-47BD-A714-5118E635C8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urious Lead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oup member algorithm may result in more than one lea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context label’s leader contains a weight, initially z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ment weight each time data is received from the me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ight is inherited during leadership hand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label with greater weight w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likely for spurious leaders attai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3894-E7DC-4B51-A1E6-30B0F2C04B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roximate Aggregate Sta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ader of the group maintains the approximate aggregate data st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der sends each membe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ember periodically sends sensor data to leader with a period of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etwork dela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ocessing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ader performs aggregation ever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valid flag is set i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not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CE31-B713-4A18-AA7D-32BD7A7771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rectory Serv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access to a particular type of context lab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 hash func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label typ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hysical location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within one hop of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are called directory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xt labels periodically send their state and location to directory ob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961A-35EA-4256-950F-5BC169A8CF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ngu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769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iroTrack provides a language for declaring context labels and aggregate data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 cod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09680" y="3276720"/>
            <a:ext cx="5181840" cy="281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6863-90A7-4F94-BD18-A656E5A169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oretical example scenari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T-72 tank moves through a sensor fi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sors can detect tank 100m a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sors arranged in grid 140m a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max speed, tank moves one hop every 11.2 seconds (45km/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ual test setu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00:1 model of the above scen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s/hop (50km/h) and 15s/hop (33km/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CCF9-C8B1-4BEA-99E5-F526C20688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ked tank traject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773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located at integer coordin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ual path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0.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have no notion of proxim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7924680" cy="26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EBB3-9158-4AD0-BCEE-ADDB28F358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dership Handov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229600" cy="395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3EAE-D3B3-4C5D-AAD9-68A1078216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unication Performa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1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stem handles message lo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ssage loss not due to link u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ocol uses very little bandwid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able to greater tracking difficul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229600" cy="142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B76-A187-478E-87E7-2E9741E587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ximum Trackable Spe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7238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fected most by heartbeat peri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st results w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ve timer = 2.1 H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ime to take over leader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it timer = 4.1*H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ime to create new grou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3E68-EA55-40C3-ADE2-D140D8F0CB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viroTrac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entity-tracking middleware for sensor netwo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an singl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ntext labe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bstraction that is dynamically created and logically associated with an 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s details of inter-node commun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s of group mainten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mer interacts with context label rather than changing set of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2A4A-E5C6-4760-A208-DA34325833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ximum Trackable Spe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123040" cy="441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4FE3-EB3F-403F-91D2-82069A9016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unication Radius &amp; Sensing Radius Rati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80264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C3DF-8CBE-4F67-901F-B8202FE464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viroTrack is a middleware for tracking ent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eves applications from details of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tory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aggre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DD0C-ACBA-4E17-9472-2652A01D32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A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tocol that allows applications to view a jammed region as an entity rather than a collection of broken links and congested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ows data to be rerouted around a jammed region and other evasive 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E6D3-17AE-4BB7-8947-BCFEAABB4D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eneral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des within the jammed area notify nodes outside of the jammed area that they are jamm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rder nodes just outside jammed area coordinate to form groups of jammed nod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51814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5120" y="5562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38280" y="48006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54100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59436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4800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81080" y="45720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5480" y="51814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56386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52578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5943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48769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648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45720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70120" y="4734000"/>
            <a:ext cx="984240" cy="113976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49528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09680" y="51814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55627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38280" y="50292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1752120" y="4800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2133360" y="47242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057400" y="472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752480" y="5283360"/>
            <a:ext cx="13968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905120" y="5730840"/>
            <a:ext cx="410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36760" y="5734080"/>
            <a:ext cx="12384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06760" y="5533920"/>
            <a:ext cx="21276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584440" y="4708080"/>
            <a:ext cx="104760" cy="12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06760" y="5133960"/>
            <a:ext cx="28872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25760" y="524844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25760" y="56293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8672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54770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59280" y="60102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68760" y="486720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02080" y="46386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16480" y="52484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0160" y="570564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21200" y="53244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49800" y="60102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21200" y="4714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87880" y="46386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4800600"/>
            <a:ext cx="984240" cy="113976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02080" y="50198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30680" y="52484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30680" y="5629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184640" y="4711680"/>
            <a:ext cx="181080" cy="4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72000" y="4714920"/>
            <a:ext cx="49860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48440" y="4749840"/>
            <a:ext cx="2188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48200" y="4867200"/>
            <a:ext cx="0" cy="45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10000" y="6076800"/>
            <a:ext cx="42552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009760" y="5829480"/>
            <a:ext cx="23508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054760" y="5886000"/>
            <a:ext cx="22860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353200" y="5410080"/>
            <a:ext cx="3780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413240" y="5162400"/>
            <a:ext cx="25560" cy="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552920" y="5025600"/>
            <a:ext cx="8568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778280" y="4943160"/>
            <a:ext cx="7632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930560" y="5251320"/>
            <a:ext cx="612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777920" y="5613480"/>
            <a:ext cx="954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695840" y="5232240"/>
            <a:ext cx="20016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479840" y="5076720"/>
            <a:ext cx="200160" cy="22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52680" y="53341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56386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3080" y="52578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53080" y="56386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86600" y="4876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54864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86600" y="6019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96080" y="48769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29400" y="4648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43800" y="52578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57150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48520" y="53341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77120" y="6019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0" y="49528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4724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15200" y="4648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18440" y="4809960"/>
            <a:ext cx="984240" cy="114012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629400" y="5029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0" y="52578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0" y="56386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086600" y="51055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40560" y="5171760"/>
            <a:ext cx="2520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780240" y="5035680"/>
            <a:ext cx="85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005600" y="4952520"/>
            <a:ext cx="7632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157880" y="5261040"/>
            <a:ext cx="648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7005240" y="5622840"/>
            <a:ext cx="954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6705360" y="5715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629400" y="540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38680" y="53341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72160" y="5057640"/>
            <a:ext cx="9180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46760" y="501984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37160" y="494028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59280" y="50958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90680" y="4930920"/>
            <a:ext cx="447480" cy="155520"/>
          </a:xfrm>
          <a:custGeom>
            <a:avLst/>
            <a:gdLst/>
            <a:ahLst/>
            <a:rect l="l" t="t" r="r" b="b"/>
            <a:pathLst>
              <a:path w="282" h="98">
                <a:moveTo>
                  <a:pt x="0" y="14"/>
                </a:moveTo>
                <a:cubicBezTo>
                  <a:pt x="83" y="17"/>
                  <a:pt x="155" y="0"/>
                  <a:pt x="222" y="44"/>
                </a:cubicBezTo>
                <a:cubicBezTo>
                  <a:pt x="226" y="50"/>
                  <a:pt x="228" y="57"/>
                  <a:pt x="234" y="62"/>
                </a:cubicBezTo>
                <a:cubicBezTo>
                  <a:pt x="244" y="70"/>
                  <a:pt x="282" y="68"/>
                  <a:pt x="252" y="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472428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mm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86200" y="57150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72200" y="57150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9A4F-FF48-4CEA-9A38-D65E05F0A2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75836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E94-DB86-4B21-92C8-7F12EEB99B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am Dete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node considers itself jammed when the utility of its communication link falls below a certain thresho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ed on local data (failed channel access, protocol violations, low SN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 node considers itself jammed, it periodically sends a JAMMED me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ify MAC to bypass carrier sense ph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pefully an un-jammed neighbor receives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D7A1-50C1-4B57-ACB4-E7ADAEAC00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pping protoco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rder nodes receive a JAMMED messages from its jammed neighbors and calculates normal direction vector to the jammed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nodes are calle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apping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it is not aware of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mpati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roup, it creates a new one with a random ID, waits a while, and broadcasts a BUILD me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groups are compatible if the angular difference between their direction vectors is below some thres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9F5-DECD-4C12-9BF2-C42184843E2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oup Coalesc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wo groups are compatible, they are coalesced after a certain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oup with the larger group ID domin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mmed nodes in the subordinate group is merged with the dominant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minant group’s BUILD message is augmented with subordinate group 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29F2-C468-406F-8395-20B45A514C4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ILD Mess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 of original sen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p 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of known jammed no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of subordinate group I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 regular node, store data lo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 mapping node, update the list of known jammed nodes and rebroadcast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A6DB-177D-4D2A-859A-B878A84C484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ext Lab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form of attribute-based na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es as an address to the ent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distinguished by type  (e.g., fire or ca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ggregate st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bout the 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sts application-define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racking ob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e elements that perform context-specific computation or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stracts a group of nodes that can sense the 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2A1C-5711-49D5-B812-FEC31C760C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ager Eavesdropp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M attempts to quickly diffuse knowledge of jammed reg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ward information diffusion: As a BUILD message is relayed around mapping nodes, each node updates list of jammed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ck Flooding: When a a BUILD message is rebroadcasts, the single hop upstream mapping node processes 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pdates its list of jammed nod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es not relay 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5826-6EC3-415E-98BF-FC4D23B27B7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dge No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mapping node that does not have a neighbor left or right of the direction v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neighbor is not discovered within some time, it periodically sends a PROBE message to detect neighboring mapping node(s) or form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ridge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81080" y="53341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57150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14600" y="49528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14600" y="5562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14600" y="60958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24080" y="49528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57400" y="4724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71800" y="53341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57913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54100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05120" y="60958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0" y="5029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4800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743200" y="4724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46440" y="4886280"/>
            <a:ext cx="984240" cy="113976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057400" y="51055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53341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0" y="57150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14600" y="51814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1828440" y="4952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2209680" y="48765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133720" y="4876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828800" y="5435640"/>
            <a:ext cx="13968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1980720" y="5883120"/>
            <a:ext cx="4140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13080" y="5886360"/>
            <a:ext cx="123840" cy="2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82720" y="5686560"/>
            <a:ext cx="21276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660760" y="4860720"/>
            <a:ext cx="104760" cy="12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82720" y="5286240"/>
            <a:ext cx="28908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02080" y="5400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02080" y="57816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35600" y="50198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35600" y="5629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35600" y="61628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545080" y="50198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78400" y="47912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92800" y="5400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16480" y="5857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97160" y="547704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25760" y="616284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97160" y="486720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64200" y="47912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4952880"/>
            <a:ext cx="984240" cy="114012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78400" y="51721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07000" y="5400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07000" y="57816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260960" y="4863960"/>
            <a:ext cx="180720" cy="4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648320" y="4866840"/>
            <a:ext cx="49824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24400" y="4902120"/>
            <a:ext cx="2192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24160" y="5019840"/>
            <a:ext cx="0" cy="45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86320" y="6229440"/>
            <a:ext cx="42552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086440" y="5981760"/>
            <a:ext cx="23472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130720" y="6039000"/>
            <a:ext cx="228600" cy="19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429160" y="5562720"/>
            <a:ext cx="3816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489560" y="5314680"/>
            <a:ext cx="2520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629240" y="5178600"/>
            <a:ext cx="85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854600" y="5095440"/>
            <a:ext cx="7632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006880" y="5403960"/>
            <a:ext cx="648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854240" y="5765760"/>
            <a:ext cx="954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4772160" y="5384520"/>
            <a:ext cx="19980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4556160" y="5229000"/>
            <a:ext cx="20016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9000" y="548640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23880" y="57913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629400" y="54100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629400" y="5791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162920" y="5029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162920" y="56386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62920" y="6172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2400" y="5029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05720" y="4800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20120" y="54100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867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24480" y="54864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553080" y="61722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934320" y="51055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24480" y="48769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391520" y="4800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94400" y="4962600"/>
            <a:ext cx="984240" cy="113976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51814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34320" y="54100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5791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162920" y="52578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6716880" y="5324400"/>
            <a:ext cx="25200" cy="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856560" y="5187600"/>
            <a:ext cx="8568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7081920" y="5105160"/>
            <a:ext cx="7596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7234200" y="5413320"/>
            <a:ext cx="648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7081920" y="5775480"/>
            <a:ext cx="950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5181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6781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705720" y="5562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715000" y="548640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48120" y="5210280"/>
            <a:ext cx="9216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22720" y="5172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13120" y="509256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35600" y="52484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67000" y="5083200"/>
            <a:ext cx="447480" cy="155520"/>
          </a:xfrm>
          <a:custGeom>
            <a:avLst/>
            <a:gdLst/>
            <a:ahLst/>
            <a:rect l="l" t="t" r="r" b="b"/>
            <a:pathLst>
              <a:path w="282" h="98">
                <a:moveTo>
                  <a:pt x="0" y="14"/>
                </a:moveTo>
                <a:cubicBezTo>
                  <a:pt x="83" y="17"/>
                  <a:pt x="155" y="0"/>
                  <a:pt x="222" y="44"/>
                </a:cubicBezTo>
                <a:cubicBezTo>
                  <a:pt x="226" y="50"/>
                  <a:pt x="228" y="57"/>
                  <a:pt x="234" y="62"/>
                </a:cubicBezTo>
                <a:cubicBezTo>
                  <a:pt x="244" y="70"/>
                  <a:pt x="282" y="68"/>
                  <a:pt x="252" y="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487692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mm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78520" y="5791320"/>
            <a:ext cx="6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38680" y="6045120"/>
            <a:ext cx="466560" cy="146160"/>
          </a:xfrm>
          <a:custGeom>
            <a:avLst/>
            <a:gdLst/>
            <a:ahLst/>
            <a:rect l="l" t="t" r="r" b="b"/>
            <a:pathLst>
              <a:path w="294" h="92">
                <a:moveTo>
                  <a:pt x="0" y="8"/>
                </a:moveTo>
                <a:cubicBezTo>
                  <a:pt x="43" y="3"/>
                  <a:pt x="78" y="0"/>
                  <a:pt x="120" y="14"/>
                </a:cubicBezTo>
                <a:cubicBezTo>
                  <a:pt x="149" y="43"/>
                  <a:pt x="190" y="49"/>
                  <a:pt x="228" y="62"/>
                </a:cubicBezTo>
                <a:cubicBezTo>
                  <a:pt x="251" y="70"/>
                  <a:pt x="269" y="92"/>
                  <a:pt x="294" y="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962520" y="5867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72200" y="5943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C123-8B45-4CE5-8539-A9320E81209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idge No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not actually receive any JAMMED mess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s two edge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ks areas of low connec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node becomes a bridge node when it detects a PROBE message from a group it knows ab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bridge node’s coalescing timer is longer to prevent spurious bridging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AC8A-134B-4B1F-9704-6766663E26A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ove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 jammed node becomes un-jammed, it periodically sends an UNJAMMED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 mapping node receives it, it updates the list of jammed nodes and propagates an TEARDOWN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pposite of a BUILD mes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ll of a mapping node’s jammed neighbors are un-jammed, the mapping node becomes a regular n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85A-3907-4EFC-83CF-FB946531796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3184560" cy="25369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2286000" cy="21891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4648320" y="1295280"/>
            <a:ext cx="2895480" cy="22482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4800600" y="3886200"/>
            <a:ext cx="3048120" cy="24177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685800" y="37339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152388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1132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6852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1132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6852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0CFF-BF94-4ED7-AB01-4C9E699610D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3102120" cy="212868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2738520" cy="212868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841320" y="4000680"/>
            <a:ext cx="3268800" cy="21301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685800" y="37339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267080" y="152388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1132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26852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1132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26852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4952880" y="3886200"/>
            <a:ext cx="3205440" cy="21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67F6-7108-4F37-8979-3DBABF64724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ulation Methodolog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oMoSim simul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000 x 4000 meter fi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00 nodes placed at 200m interval gr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dio settings inbetween MICA2 and Wave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CA &amp; IEEE802.11 MAC lay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mmed area ranged from 5-144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: 4 neighb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rate: 8 and 12 neighb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B1EB-718C-44ED-8462-52D89242740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ulation Resul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ying jammer r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228600" y="2286000"/>
          <a:ext cx="8458200" cy="37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0"/>
                    <a:ext cx="8458200" cy="37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FBD6-93BF-49D9-AF7F-34973DCC5BD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ulation Results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381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e to map region, 12 neighbor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0% of mapping nodes know 1/3 of jammed region in 0.5-3 seco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52280" y="3429000"/>
          <a:ext cx="8305920" cy="23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429000"/>
                    <a:ext cx="8305920" cy="23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0AF9-0C6E-47B2-92DF-8495BEF87F8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ulation Results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 failure 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523880" y="2209680"/>
          <a:ext cx="5410440" cy="19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09680"/>
                    <a:ext cx="541044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1219320" y="4191120"/>
          <a:ext cx="5638680" cy="21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191120"/>
                    <a:ext cx="563868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EEF4-106A-4617-BDFA-A85F8542E62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 Defini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tain context labels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entity has one context la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ext label follows the ent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p management, leader maintena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ximate aggregate state is mainta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eshness constraint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itical mass constraint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ify application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uage support for defining context labels, aggregate state variables, and tracking o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ry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B86A-87D8-4AA9-A13B-2BB89D4496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M provides a protocol for mapping a jammed reg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se group semantics and eager eavesdropp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ick convergence and tolerance to failures when network is moderately conn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5066-5699-4607-A0DD-C65075D3091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gramming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78800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7192-2179-40A2-9432-A9BA1AA657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ext Label Specific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declare a context label of typ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following must be provid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se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) – specifies a pattern in the environment to watch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) – the state data to be maintained within the context lab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viroTrack provides a library of state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) func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ccessible by all tracking objec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ch tracking objects to associate with the lab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2B3F-0F89-4F63-B980-2A1D6182BB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oup Maintena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roup of sensors that detect the entity should produce a single context label for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lgorithm must be lightweight and dynam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members of the group must satisfy sense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is at most on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ajority lead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in the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071E-3E54-47EC-9B2D-D4FE9641FD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oup Maintenance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leader exists, the leader sends heartbeat containing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agat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ops beyond group bound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ls member nodes leader is still pres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fies non-members of the existence of context label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2866-7E57-4400-822B-17204ECD9D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. M. Algorithm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 member receives a heartbeat, it sets a timer.  If timer expires before receiving another heartbeat, a leadership takeover protocol is trigg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a backup to the standard leadership hand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786F-9C96-4C8F-8101-459D13C069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ang</cp:lastModifiedBy>
  <dcterms:modified xsi:type="dcterms:W3CDTF">2003-10-16T15:31:23Z</dcterms:modified>
  <cp:revision>137</cp:revision>
  <dc:subject/>
  <dc:title>PowerPoint Presentation</dc:title>
</cp:coreProperties>
</file>